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5EFF-DE09-451D-94F5-61DDE6D4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109-2C47-47CF-A38C-F8788F32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CEA8-9A85-4DC1-B25D-29FD6137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B15-B661-4049-8B57-362E1313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2C50-B3F6-4462-B5CA-FB76FE47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94E1-A65E-4369-809A-D3A2DCA3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DA76-B875-4C91-926D-127EF1A0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B8DD-4FA1-435A-B0C2-0053EC14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1ED6-ECEA-498E-B4DD-04CCA4AE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8741-9C56-4890-A158-B2669D5A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37DD-9789-4947-BF90-7268762C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DDB-BDBF-4896-8071-ACA1C86E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0444-EEE9-448C-BF74-BC358E61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85AC-681C-4523-AD37-4E4F8F4D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3865-21F2-44ED-9475-A0B00EE8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CD3A-780F-422F-95D2-81C1B491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05E6-1FD9-4036-B46D-32F07CC5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BBA4-F65D-48B2-92E2-6FE7D090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34E-1828-4AFE-8F46-3C27C4B1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6F4-8925-473C-8BB5-3EDD3565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3DE-5E0F-489E-9362-75A593E4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5E09-3306-452C-964E-7FDD86F1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DAD-5AA4-4D18-BA54-F37A49F6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DE9-1C9B-4EC3-9830-A9D1B797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1FC5-CFAA-42D9-BA59-2F7454A5140E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2522-E014-42C3-A762-0DE4FD919DBA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assroom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alk-Through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cademic Counci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November 13, 2007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mplementation Timelin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/13 Academic Council-Create Rubric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/19 Department - Review/Edit Rubric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/21 Submit Revisions to L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/27 Faculty Meeting - Review Rubric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/28-11/30 Classroom Walkthrough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2/5 Academic Council - Review Dat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2/11 Department Mtg- Review Dat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mall Group 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716292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1) What observable evidence of best practices and teaching methodologies to ensure student learning, should we see in any classroom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2) How do these connect with 21st Century Learning Skill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3) How do they connect to UbD &amp; DI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Benefit of Frequent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assroom Observ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ives a cycle of continuous improvemen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etter awareness of instructional strategies and school climat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ore collegial (less hierarchal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ore collaborati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requent visits lower teacher apprehension over tim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hallenges to Classroom Observ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me consum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reat deal of paperwork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cuses on only 1 teach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es not provide for school-wide data collec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es not provide for a school-wide snapsho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assroom Walk-through Model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-5 minute classroom visi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rt/Rubric to check-off observable evidence in the classroo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reated by teachers, for teachers, for school-wide improve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chool-wide snapshot, not focused on individual teach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ata collection is quick to provide immediate feedback for instructional growth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use Classroom Walkthroughs. . .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enerates conversations about instruction and curriculum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s a springboard for professional development based on dat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cuses attention on implementation of best practic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cess for Developing Schoolwide Walk-Through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ubric is created by teach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epartment Chairs participate in walk-through with administrato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nducted over a short (1 week) time perio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ata is synthesize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ata is disseminated to all staff in a short time following the walkthrough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cussions within Academic Council, Departments, Faculty Meetings about Instruction and Student Learn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uring the Walk-Through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eam observes a classroom for 5 minut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uring the observation they are noticing evidence that corresponds to their char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y check-off what they se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fter the observation they quickly confer about the observation and align their chart dat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ample Chart Categori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structional Behavior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hecking for Understand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gnitive Strategi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igher Order Thinking Task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Questioning Techniqu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llaborative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assroom Environmen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ample Rubric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2590920"/>
          <a:ext cx="8229600" cy="2790720"/>
        </p:xfrm>
        <a:graphic>
          <a:graphicData uri="http://schemas.openxmlformats.org/drawingml/2006/table">
            <a:tbl>
              <a:tblPr/>
              <a:tblGrid>
                <a:gridCol w="1066680"/>
                <a:gridCol w="990720"/>
                <a:gridCol w="838080"/>
                <a:gridCol w="914400"/>
                <a:gridCol w="914400"/>
                <a:gridCol w="838440"/>
                <a:gridCol w="990360"/>
                <a:gridCol w="990720"/>
                <a:gridCol w="685800"/>
              </a:tblGrid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lassroom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mall Group Teaching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Higher Order Thinking 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Q’s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nformal Assess-ment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Formal Assess-ment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Reading Strategy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Tech Integration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Quick , Smooth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Transition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lear Rubric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9:24:10Z</dcterms:created>
  <dc:creator>Office 2004 Test Drive User</dc:creator>
  <dc:description/>
  <dc:language>en-US</dc:language>
  <cp:lastModifiedBy>Office 2004 Test Drive User</cp:lastModifiedBy>
  <cp:lastPrinted>2007-11-05T22:15:44Z</cp:lastPrinted>
  <dcterms:modified xsi:type="dcterms:W3CDTF">2007-11-13T22:00:17Z</dcterms:modified>
  <cp:revision>6</cp:revision>
  <dc:subject/>
  <dc:title>Classroom Walk-Through</dc:title>
</cp:coreProperties>
</file>